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6538"/>
        <c:axId val="28507527"/>
      </c:barChart>
      <c:catAx>
        <c:axId val="4126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7527"/>
        <c:crosses val="autoZero"/>
        <c:auto val="1"/>
        <c:lblAlgn val="ctr"/>
        <c:lblOffset val="100"/>
        <c:noMultiLvlLbl val="0"/>
      </c:catAx>
      <c:valAx>
        <c:axId val="2850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6FE-67B5-4D4F-B3A9-A2667146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73E-E3E3-4B87-945B-58529FBF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45B-D371-4D1A-AB1C-02FB97AF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3C7-A373-46D3-834D-2C965AB6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8E4-BED1-4999-A785-E6E7BB47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91E-AF17-4D86-9036-89FEF0A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BE8-5680-4C83-9AE8-F67E686E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934-9472-471C-B8AD-2C03550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98D-8AB8-4129-86A4-99F531B0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3CD-754D-438B-B1D9-31CBBA9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431-650E-4BFC-B961-1DC42F2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850-5E7D-4A37-A6EC-859CEB2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B96C3-92F5-4080-AFF6-36C3CBF70F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