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06155"/>
        <c:axId val="36550044"/>
      </c:barChart>
      <c:catAx>
        <c:axId val="63806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50044"/>
        <c:crosses val="autoZero"/>
        <c:auto val="1"/>
        <c:lblAlgn val="ctr"/>
        <c:lblOffset val="100"/>
        <c:noMultiLvlLbl val="0"/>
      </c:catAx>
      <c:valAx>
        <c:axId val="36550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06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C0C-31C0-4143-8126-E88CFE9F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658-68ED-4FD6-8FBF-77A92B25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E02-4CCB-45BE-941D-E76C9449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263-58A4-4A34-88E3-C30D1FF0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B5C-0203-459C-88FE-032F8097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133-72AE-4D74-9789-711D0B6A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38B-C3C7-4B77-8BBD-AF1690D8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02B-CB21-4971-B15F-819CD3B0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8EC-C194-4E52-96E1-FC4DBB6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9F2-4EBF-4966-8A37-C3899BF5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37D-4202-4428-AEF8-DCA9933B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9F3-CBA5-46E7-A57F-E9DB35C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607A0-529D-42A9-A9F4-5E92702B30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