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14112"/>
        <c:axId val="4076309"/>
      </c:barChart>
      <c:catAx>
        <c:axId val="73714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6309"/>
        <c:crosses val="autoZero"/>
        <c:auto val="1"/>
        <c:lblAlgn val="ctr"/>
        <c:lblOffset val="100"/>
        <c:noMultiLvlLbl val="0"/>
      </c:catAx>
      <c:valAx>
        <c:axId val="4076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14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89D-CE40-4EB1-9960-0E9C985B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95D-4715-486C-A7F6-8381EE65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136-82A0-495A-9C03-03439947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44B-65F9-4788-9BE9-2D208894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467-56AC-4284-B9F5-708DE810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602-0BF6-4B34-86B0-4A519ED6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58F-9BD3-4B8B-8E7B-E1F23076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553-2EA0-4040-95FE-F5DD757D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6D3-0681-42CB-AE32-72219D9D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BDD-1920-4407-A443-89272B13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40B-8A3E-4F2A-8B0A-DC889B84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829-579A-4FF1-BBB3-06656AF2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F0511-79F9-4524-81E9-704FFF49D6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