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87691"/>
        <c:axId val="94913579"/>
      </c:barChart>
      <c:catAx>
        <c:axId val="90787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3579"/>
        <c:crosses val="autoZero"/>
        <c:auto val="1"/>
        <c:lblAlgn val="ctr"/>
        <c:lblOffset val="100"/>
        <c:noMultiLvlLbl val="0"/>
      </c:catAx>
      <c:valAx>
        <c:axId val="94913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87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8EC-0AEB-4F82-8693-43C115E2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C0E-45F6-4CC6-AE7C-BA17185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FA5-890F-4D32-98AB-19AEFD19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F7E-FE98-44F2-8AA9-EC27257E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03E-CCF0-4389-9CE4-7B40800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11F-31D6-4A16-88EA-4B94A79C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234-4403-445F-83B2-A102BCA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B5B-F238-4DCF-ADEC-225C05DD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853-9A8F-45E9-8487-D051078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C20-A5BF-425A-8A0C-0A0BA49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34B-2FB8-486D-BCE9-645601F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7A8-3205-404A-8E96-186F8BD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B1467-A238-4368-B84F-728CE6A9E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