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6502"/>
        <c:axId val="19229187"/>
      </c:barChart>
      <c:catAx>
        <c:axId val="2746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29187"/>
        <c:crosses val="autoZero"/>
        <c:auto val="1"/>
        <c:lblAlgn val="ctr"/>
        <c:lblOffset val="100"/>
        <c:noMultiLvlLbl val="0"/>
      </c:catAx>
      <c:valAx>
        <c:axId val="19229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6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439-21C9-445D-AFEB-95E1AE0F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99E-963D-497C-BCC2-E95C34F2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3A6-D139-4CA8-8E7D-6C6B4CFF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F79-D664-40C7-89CD-3101F62B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8E2-6A33-485D-8BB1-995368F9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195-7E4F-485C-98BA-A34BC057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440-05BD-43B2-82BD-7AC7F88A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C14-2ABF-4290-9FB4-DD425111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6A6-8481-466C-B5EE-3305E80E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42E-674D-4EFF-AECF-E1E49D6A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0B0-6B81-4362-B0D9-74B0C32C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0E8-18FC-49E9-98D1-A67711BD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70A8F-34C7-4EB7-BBAB-B2EFAF4A0F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