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39462"/>
        <c:axId val="34627815"/>
      </c:barChart>
      <c:catAx>
        <c:axId val="66439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27815"/>
        <c:crosses val="autoZero"/>
        <c:auto val="1"/>
        <c:lblAlgn val="ctr"/>
        <c:lblOffset val="100"/>
        <c:noMultiLvlLbl val="0"/>
      </c:catAx>
      <c:valAx>
        <c:axId val="34627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39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EC3-133B-430C-A7AD-A8420D91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2DB-663F-4599-ADB6-43BC057C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0D9-1D5D-41ED-B98C-C8245304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FBC-56F9-4781-B076-47988190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FEE-02A5-49FB-B9F6-E2BB713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D27-CDFD-44D2-A6E6-8FCA5C8B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41D-598D-4DD0-9AEE-A1EFDDA3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A6D-4752-4594-B592-A73ECFAB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B0B-EA92-49B0-B197-D4D04DFC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796-E08C-4427-8221-6A91F1F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D77-E683-4D63-B325-EE35896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A8A-55FB-465D-9BE0-CA2F1F9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3D45D-70BB-4539-AABA-A64E88470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