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028139"/>
        <c:axId val="34814655"/>
      </c:barChart>
      <c:catAx>
        <c:axId val="940281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814655"/>
        <c:crosses val="autoZero"/>
        <c:auto val="1"/>
        <c:lblAlgn val="ctr"/>
        <c:lblOffset val="100"/>
        <c:noMultiLvlLbl val="0"/>
      </c:catAx>
      <c:valAx>
        <c:axId val="348146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0281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C42D-30E7-4134-AD9B-669B0DA56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55ED-14DD-4A2C-845B-7E556EC5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2E9F-2CAA-4CAA-AF39-ADAE34F2B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B8A9-8468-4789-9898-7A300D866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DF77-36F6-494A-BED0-C40035AD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ED12-1E75-47DA-A4ED-F64E04D9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A574-647B-4483-8801-F46FC49C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5AF8-A8EA-4062-8C86-E54AF1AC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B0EB-011A-4FEA-86E4-4B454CD7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91CE-C388-4214-92AE-CEB8C991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0581-15AA-4A14-A5D9-9D8722D0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D658-C5E5-4EED-A47F-640C9CE4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CC09B8-8ABF-440E-8BE5-6096FECAD8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